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D3D-9840-44A3-8E1C-3307B6F6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717-A9E9-484B-B01A-2DCA81A9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02C-4359-4ECD-88D4-D2153C76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2CA-D8E3-410F-BBDA-18EA75F2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0078-1496-46F0-98C4-2016439E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1E2F-558A-495F-9BE4-AFC64DB8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DFA-170A-4D8B-B95D-360C9D0E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8808-C910-413B-AA1E-46EB6E8E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BA2E-91B1-4335-96E8-8F792946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EF69-8EDB-4C55-BF6A-67D0F6F0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3204-A395-459F-8B0A-B99EB67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FA5-D170-414E-B93C-58956A6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1F8E-E779-4F14-A105-D7749C8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1545-01C8-4E0C-8B8C-0197F817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6320-FA0C-465F-BD1F-BE44F336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52C7-0F8C-46A8-A2F9-EBD73CE4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8E9E-3948-4CB1-8F37-FC401E0D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BC4-6B87-4486-9B81-01063223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575-0556-4D65-95F9-D582AF40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EF1-FBCF-47FD-B90E-1BF14182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22C-50F3-4F82-99E7-873E065F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50B-85DF-41B7-801E-81E94735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3D1-E84E-4A61-8597-BF7F733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841-3106-48BA-BC5F-1E0B5BC8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F384-4842-4FAB-A855-000094471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2A9-F41F-428C-8096-989903F86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1171"/>
                </a:solidFill>
                <a:uFillTx/>
                <a:latin typeface="Times New Roman"/>
              </a:rPr>
              <a:t>Mi mansion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867560" cy="4038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32400" y="1828800"/>
            <a:ext cx="334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1171"/>
                </a:solidFill>
                <a:latin typeface="Times New Roman"/>
              </a:rPr>
              <a:t>Mi mansion es elega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1171"/>
                </a:solidFill>
                <a:latin typeface="French Script MT"/>
              </a:rPr>
              <a:t>Mi cosina!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1171"/>
                </a:solidFill>
                <a:uFillTx/>
                <a:latin typeface="French Script MT"/>
              </a:rPr>
              <a:t>Mi cosina es moderna y bonit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05120" y="2590920"/>
            <a:ext cx="5105160" cy="3709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French Script MT"/>
              </a:rPr>
              <a:t>Mi bano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bano es colar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French Script MT"/>
              </a:rPr>
              <a:t>Mi sala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ench Script MT"/>
              </a:rPr>
              <a:t>Mi sala es moderno y grand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4864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dwardian Script ITC"/>
              </a:rPr>
              <a:t>Mi dormitorio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ench Script MT"/>
              </a:rPr>
              <a:t>Mi dormitorio es fabuloso y modern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4952880" cy="371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66"/>
                </a:solidFill>
                <a:latin typeface="Times New Roman"/>
              </a:rPr>
              <a:t>Mi garaj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Times New Roman"/>
              </a:rPr>
              <a:t>Mi garaje es moderno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4267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Mi jardi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 jardin es colare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5053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7:19Z</dcterms:created>
  <dc:creator>forrestash</dc:creator>
  <dc:description/>
  <dc:language>en-US</dc:language>
  <cp:lastModifiedBy>ashley forrest</cp:lastModifiedBy>
  <dcterms:modified xsi:type="dcterms:W3CDTF">2011-04-07T18:12:28Z</dcterms:modified>
  <cp:revision>4</cp:revision>
  <dc:subject/>
  <dc:title>Mi casa</dc:title>
</cp:coreProperties>
</file>